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D25-608E-47DD-8348-691F9D0D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FA0-BF6A-48B0-AC14-508C855E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516-1970-40A6-958C-DA8EAC92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60C-7581-4F37-804D-25614353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2BDA-D224-441B-9A25-E75616BF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6ACB-4ECF-49D6-9394-8425D609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8DCB-9CAC-4D69-B4E6-B9B644C4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E632-0B18-4933-A978-A435FC1B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AD2E-194D-4B06-8B59-B63CE5FF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D790-3865-4B48-8D74-D458262C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1E63-A254-4646-A207-B3159950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52E-BD5E-4B3B-83EC-B46C1DB4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00A8-4CCA-4766-8CAC-404E817C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6B1-EE23-422B-B916-A6711BC2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DDE7-1DE3-43A1-A6FA-7BCF768F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B261-9C69-42DF-858F-B40A5505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1A69-5961-495D-BE8A-1D6A94C8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C21-352C-4541-A279-6DEBB47E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2AA-E1D5-4757-B214-BEFC4EE0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DDC-00CB-4D46-8734-3EEECF82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F0A-2B72-4712-921B-78A6923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478-5CCA-4715-BBD2-05C2959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705-6A9E-4B4A-AD00-0E5B0F93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406-13E6-4638-A233-67424945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7A21-28E8-45E9-B4CC-8302154FB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F27-B9FA-4459-9E7D-92D01F0DE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askerville Old Face"/>
              </a:rPr>
              <a:t>Comparing and Contrasting Literary Elements Using a Document Camer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4495680"/>
            <a:ext cx="590400" cy="178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358164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2590920"/>
            <a:ext cx="312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08040" y="3160800"/>
            <a:ext cx="268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8098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The Pit and the Pendul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62485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rush Script MT"/>
              </a:rPr>
              <a:t>By Edgar Allan Po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289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50532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378468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0" y="685800"/>
            <a:ext cx="37242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xts Use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2057400" cy="2133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000" y="365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ld English Text MT"/>
              </a:rPr>
              <a:t>The Rav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89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askerville Old Face"/>
              </a:rPr>
              <a:t>Objectiv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00600" y="27428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ryland VSC Indic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2.4: The student will identify and/or explain connections between and among themes and/or styles of two or more texts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Mrs. H and Elmo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3581280"/>
            <a:ext cx="38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le Mrs. H writes and speaks, students  write what she writes.  Elmo displays from her table onto the board. She is also able to display and save images from Elmo to her compu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86400" y="609480"/>
            <a:ext cx="3276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708360" cy="3353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733560" cy="304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51055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ents have a venn diagram that is the same image displayed on the board through Elmo. As the image on the board is filled in, students complete their dia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3200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Student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1447920"/>
            <a:ext cx="2454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oshua writes student responses onto image displayed from Elmo (onto chart paper to post as a reference source within the classro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79840" y="5065560"/>
            <a:ext cx="420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udents provide responses as to the similarities and differences of literary elements between “The Pit and the Pendulum” and “The Raven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335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Student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Completed Compari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85136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5105520"/>
            <a:ext cx="51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s is the complete comparison generated by students through classroom discu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33:32Z</dcterms:created>
  <dc:creator>lewan hutchison</dc:creator>
  <dc:description/>
  <dc:language>en-US</dc:language>
  <cp:lastModifiedBy>lewan hutchison</cp:lastModifiedBy>
  <dcterms:modified xsi:type="dcterms:W3CDTF">2009-02-21T03:13:55Z</dcterms:modified>
  <cp:revision>6</cp:revision>
  <dc:subject/>
  <dc:title>Using a Document Camera in a High School English Class</dc:title>
</cp:coreProperties>
</file>